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vide the template for reference for Sandra and for Er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 and Mary might want to have them use th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lue is about the mathematics (the wh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ellow is about process expectations (the how of their ability to support the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ccess criteria does not need to be all of thes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nowledge and Understanding always has to be present, which process you focus on to support the knowledge and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fferent learning goals, success criteria, consolidating questions even though we are using the sam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F2B5-3FE3-4B98-B65E-25C3FB87998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2646-5DEE-4141-89AA-1D3A110F0FD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ole group discussi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8251-D46F-44FE-83FC-0FD3B742E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A83D-5BCF-45AE-98BB-88F19966E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6595-F860-4CE1-AAFF-09F3819F5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AF94-98D7-4CC7-BEDD-C775EE374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2982-4F48-44F3-A786-DC53B8643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B9F4-F5ED-48F1-B045-004907FA3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F9C5-8C52-44C1-BAE7-944B4BACD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1C7E-60B5-4F19-B9E3-3B5B25223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2893-6DD0-4D65-A241-B0F81EA54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AF82-5599-44D1-A620-17FBD6CC7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A33A-F08D-400F-9D5D-1DA40C52A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885E-90DF-4ED3-A8DD-4FDE4C624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D1B2-6311-4C07-A2D9-D704E8448B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EDFC-C89B-4E28-BAA9-7264CF1BD8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es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hart paper, 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ation(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0B7D-3A84-455C-9FE2-BFE2E9CAA4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133720"/>
                <a:gridCol w="1401840"/>
                <a:gridCol w="807840"/>
                <a:gridCol w="1828800"/>
                <a:gridCol w="381240"/>
                <a:gridCol w="22860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8C9A-EEE3-4EFE-9A43-37A0E65479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are you looking for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answer to the table problem would look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FEA-D8AB-4379-94F6-0626512C90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consolidating question would be to determine that your learning goal has been rea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32F1-D701-4A85-885F-06179F41C8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wi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chart papers with anothe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y similar? 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BA58-25AE-4C46-9E5B-F9F7D5D11D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1A2-25DF-41F1-B8CF-27E63837C2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ple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llowing sample solutions and decide if they are a good solution (based on your group’s decision about what a good answer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0CBD-0BFC-495C-B9DB-7AEEDCA7FC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neraliza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a picture or constructing a model to represent the situation to count the desired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the previous term or terms in the sequence to determine subsequent terms (Additive thin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 portion as a unit to construct a larger unit by multiplying. There may or may not be an appropriate adjustment for over-or-undercou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-and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ing a rule without regard to why this rule might work. Usually this involves experimenting with various operations and numbers provided in the problem situ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ng an explicit rule that expresses the co-variation of two sets of data, based on information provided in the situation. An explicit rule can allow for the prediction of any term number in the patte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ustification Fra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0: No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s do not address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: Appeal to external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is made to the correctness stated by some other individual or reference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: Empirical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fication is provided through the correctness of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: Generic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tive justification is expressed for a particular inst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4: Deductive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ity is given through a deductive argument that is independent of particular in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eel about these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se frameworks match your success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(frameworks/success criteria) is more beneficial for students? 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9529-2A7A-4290-8B1B-FE6C75B0CE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Pattern Rules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own secret patt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pattern where the number of tiles in position number 3 is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have your table try to determine the rule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47EF-D09C-43D6-AFE1-6B7B34B987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1B1E-86BE-45F7-98C9-9C67980F01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r 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different representations of patterns and discover that different representations bring about different mathema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erience creating learning goals, success criteria and consolidat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5513-CF23-4550-857F-65E88121F8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618C-B9A8-4CF4-B9EF-5C5EA5130C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ack to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handout individ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your table when everyone has fin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C12-7704-4AAB-B85E-3837F94740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we Learn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see the pattern both numerically &amp; geomet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ended to think about patterns additively…by the end of tonight’s session, I was much quicker at seeing multiplicativ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3BDD-9EAC-4F9C-9D88-ADF317FDF8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we Learn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collaborative learning community to engag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ed time to discuss and explore the mathematics (teachers observe &amp; lis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ing questions is better than answering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1848-B72A-40A8-9E92-AC9A1AA8E0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reate geometric patterns and use them to support our own understanding of multiplicative thinking, generalizations and multipl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egin discussing the idea of responding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F3A-3B6E-424C-80E4-6AB532BA6D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08D5-4FDA-4CF2-B78B-403DAC65D1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F093-1EAC-448E-9FB1-2BF9989883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E:\Beach Images\Beach &amp; Water (K - P)\Man with Toy Boat.wmf"/>
          <p:cNvPicPr/>
          <p:nvPr/>
        </p:nvPicPr>
        <p:blipFill>
          <a:blip r:embed="rId1"/>
          <a:stretch/>
        </p:blipFill>
        <p:spPr>
          <a:xfrm>
            <a:off x="2235240" y="2303640"/>
            <a:ext cx="4672080" cy="225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ard So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receiving a card which contains a representation of a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 is to find all the people that have a different representation of your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iscuss which representation you find the most clear and which ones you are the most/least comfortabl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5A56-F96B-43C1-86CE-918C860C56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ur learning goal was for the card s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we achiev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3049-9848-494C-8CAA-B9615CF152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E:\Beach Images\Beach &amp; Water (K - P)\Kayaking - No Paddle.wmf"/>
          <p:cNvPicPr/>
          <p:nvPr/>
        </p:nvPicPr>
        <p:blipFill>
          <a:blip r:embed="rId2"/>
          <a:stretch/>
        </p:blipFill>
        <p:spPr>
          <a:xfrm>
            <a:off x="4495680" y="2590920"/>
            <a:ext cx="265752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Table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w you would solve the problem on your own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 up and solve the problem in 2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B4A9-EC2F-42EE-B05B-16CAF0F7E8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3962520" y="3886200"/>
            <a:ext cx="2882520" cy="1359000"/>
            <a:chOff x="3962520" y="3886200"/>
            <a:chExt cx="2882520" cy="1359000"/>
          </a:xfrm>
        </p:grpSpPr>
        <p:sp>
          <p:nvSpPr>
            <p:cNvPr id="89" name="AutoShape 17"/>
            <p:cNvSpPr/>
            <p:nvPr/>
          </p:nvSpPr>
          <p:spPr>
            <a:xfrm>
              <a:off x="416556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8"/>
            <p:cNvSpPr/>
            <p:nvPr/>
          </p:nvSpPr>
          <p:spPr>
            <a:xfrm flipV="1">
              <a:off x="524520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3962520" y="449568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4749840" y="499104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5524560" y="5016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6210360" y="50166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6629400" y="4368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4419720" y="39240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5092560" y="39114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5918400" y="388620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York Region District Schoolboard</cp:lastModifiedBy>
  <dcterms:modified xsi:type="dcterms:W3CDTF">2011-08-18T23:49:15Z</dcterms:modified>
  <cp:revision>60</cp:revision>
  <dc:subject/>
  <dc:title>&lt;Title&gt;</dc:title>
</cp:coreProperties>
</file>